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87B-7BF2-48F7-919D-722AEC33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C92-7926-4033-8889-8F3E082E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BBD-59D9-43CA-A633-5D9B99A4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C46-912D-4F20-AA22-E44A0B95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2290-8339-4F44-8298-1C84FA05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8730-62C5-42A0-9C06-7174EBE9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C956-86F4-4810-AB5D-D2AEC718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67A7-F47E-4849-AF43-6704381D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14CD-C56B-4635-B984-2B5B0BD6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FEFA-BA38-4D12-9297-0EB42809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B8F1-E9D2-4853-9190-37F30AE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45F-C82A-4E1C-A6E4-D4C248BD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0D77-9D42-4043-8934-E18DABF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043C-FF60-4E4A-B220-309BC79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3EA4-1F7F-42DA-BA6F-4B54759E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FF72-2F93-484A-8040-D50AEC2E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A76B-0B33-4015-B67D-85B5388A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CB7-B0FD-4905-8327-67D690D8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750-FB03-4A58-81CF-6546639B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B42-44D6-495E-B54D-335D6F32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1C7-F8C0-463C-B0D2-107E7EB2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8E7-D472-4EEF-BAC0-D1AE8F9F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BB0-DD04-40EE-BC57-20DE4BBD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009-B9A2-4D99-8242-AB841EA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2A0B-3C0C-45D5-9046-35BD721CD6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4DCE-7183-44C0-8E65-508B8888CA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f5f9"/>
                </a:solidFill>
                <a:latin typeface="Calibri"/>
              </a:rPr>
              <a:t>«Искусство доколумбовой Америки»</a:t>
            </a:r>
            <a:endParaRPr b="1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666520" y="38862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тудентка 4 курса КГПИ филологического факультета Лобанова Н.С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сновополагающий  вопрос нашего проекта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то такое искусство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то за континент доколумбовая Америка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то такие ольмек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акова художественная культура классического периода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то такое Теотихуахон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то такие ацтеки и каково их искусство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Дидактическая цель проекта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знакомить учащихся с художественной культурой народов доколумбовой Амери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Методические задачи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ать представление о наиболее значительных достижениях художественной культуры народов Центральной и Южной Америк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знакомить с характерными особенностями культуры народов доколумбовой Америк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пособствовать творческой деятельности учащихс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спитывать познавательную активнос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россворд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клад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Эсс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ворческая презентац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Продолжительность проекта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оект рассчитан на 4 учебных часа. Всего 4 урок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Этапы проведения проекта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ыбор и формулировка тем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иск информаци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формление прое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щита прое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Информационные ресурсы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historic.ru/lostcivil/inca/gallery/ruins.s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historic.ru/lostcivil/inca/gallery/ruins02.s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www.sciteclibrary.ru/rus/catalog/pages/6026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www.mesoamerica.ru/indians/index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goldenfish.nm.ru/index.ht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Наташа</cp:lastModifiedBy>
  <dcterms:modified xsi:type="dcterms:W3CDTF">2010-04-26T07:06:2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